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583-F809-420F-9EE7-62CEAC9C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678-E94E-45CC-A19E-AB95945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CA5-B757-4C42-A388-AEB7ED55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987-BC28-46A7-AE2E-72C5EE11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EE2B-0346-427A-B7D3-4B9D4A29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5B2-6E1C-4944-BA06-87E4B3A3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1045-9C23-4DD0-8F09-1FA1A5C3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C250-5A3F-405F-A6EA-22DBA7A8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7573-3FE1-4248-BA5B-A624DEB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CD4F-6AFC-4F03-A722-B71E7D8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0E0E-83B0-4EC5-9D85-655F2245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21C-5F29-442C-A272-CF2E58F8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C3BD-A007-4E67-B38F-6F7F78C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6C7B-A968-40F1-8808-4DD992E0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D196-4502-43F3-8C68-CEEEE160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37D-8A86-4DCC-B6E9-7E44DF97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2F9F-D7E9-455A-8291-DFEDBF9C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912-3470-4BEB-B1EF-BD875CD6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085-B805-4A97-A67B-99474072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835-958C-41F7-8F3C-ECCD0552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ED3-A85F-47EF-A997-37847D3E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29D-DB4B-4A06-B153-33B16E13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B80-FD2E-4837-9DB1-0A8CFA11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5F1-2E3A-41AA-B4A4-BD6EAD75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C008-7473-401C-8208-3769734AAD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1F0F-DF81-4D8E-BC6D-FA054E1835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ATION OF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4A88236D-4A3D-4E37-864E-3E831EFB13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14200" y="1285920"/>
            <a:ext cx="40006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γ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ον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κ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υφ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νηρ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143160" y="212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Nom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143160" y="261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/Fem./Neut. Gen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43160" y="310032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Acc. Sing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. Nom./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143160" y="3614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3143160" y="4129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3143160" y="46576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143160" y="51577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Nom. Sing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. Nom./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3160" y="5661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χλ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σιλε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ρδι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04BA406A-7B09-4A15-AED5-5B41300EA1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λ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42920" y="1428840"/>
            <a:ext cx="607212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ιν θεος ἐν οὐραν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ιον το του Ἀβραα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κ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σιν πολλοι ἁγιοι Ἰουδα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του Ἰησου λογος εὐαγγελ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0040" y="7128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7 WORD ORDER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8 SPECIAL USE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3A3675EE-C982-495C-8A15-6D268F8212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4660920" y="23302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God in hea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660920" y="2941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aham’s child is a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700520" y="47862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holy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700520" y="54100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d of Jesus is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62437C17-AE76-48E9-82BA-D05EE89624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285920"/>
            <a:ext cx="6072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ουμεν τον ἀγαθ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δελφος ὁ ἀγ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υφλον δουλον ἐχ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γιος λαος φιλε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κυριος οὐκ ἐχει δικαι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643280" y="21877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keeping the good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643280" y="28209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oly brother i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643280" y="341136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has a blind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643280" y="4030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ly people loves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643280" y="465444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rd does not have a just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6BFE8188-80FE-48EE-858F-2380002C7D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285920"/>
            <a:ext cx="60724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βαλλει τα δαιμονια τα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νη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ιτε τας ἀγαθος ἀδελφ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643280" y="218772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casting out the wicked dem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643280" y="340992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 calling the good s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14200" y="3956040"/>
            <a:ext cx="4929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k a wicked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believes her own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rowd seeks the only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643280" y="459108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ω πονηραν ζωη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643280" y="514980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ει τῃ ἰδιᾳ καρδι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643280" y="571968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ὀχλος ζητει τον μονον θε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00040" y="15001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- I 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2A981B4E-B199-46F9-8B4D-55CB31E22D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21488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14880" y="29908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214880" y="3600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11640" y="42181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214880" y="4861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/she/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2) - PREDI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604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7F8040FC-8FE0-4F4D-913D-8219355501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1280" y="1157400"/>
            <a:ext cx="478656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ε ἀγαθο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γιος ἐστιν ὁ νομος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τυφλη ἀδελφη ἐστιν νεκ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ωνια τα Ἱεροσολυμα τα ἁγι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gospel good or ev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64080" y="158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you (pl.)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54360" y="21016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w of God is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57600" y="2597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hildren are Je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557600" y="31161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blind sister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557600" y="36399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holy Jerusalem eter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57600" y="414324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θον ἠ πονηρον (ἐστιν) το εὐαγγελι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4572000" y="50007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ὁ μονος (ἐστιν) ἐν οὐρανῳ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ρανοις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42920" y="4927680"/>
            <a:ext cx="4572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ly God is in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59840" y="5715000"/>
            <a:ext cx="365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in the synag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4572000" y="58053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μεν ἐν τῃ συναγωγ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1AF646B1-BD83-4948-84B4-0620442E9D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71280" y="1285920"/>
            <a:ext cx="4714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ετρος φιλει το νεκρον τεκ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υἱος ὁ τυφλος βλεπει το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γιον καλουσιν 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αλλει αὐτο εἰς την καλην 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τερῳ εὐαγγελιῳ οὐ πιστευ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8620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eter loves the dead chi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8620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blind son sees the Messia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794120" y="3714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y call the lord ho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782960" y="429912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 throws it into the good eart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782960" y="4834080"/>
            <a:ext cx="43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do not believe (in) a different gosp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759200" y="564372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slave of God is bles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90000" y="546084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ουλος του θεου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F601571D-B0BB-4A22-B705-6056F2758A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280" y="1285920"/>
            <a:ext cx="47149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για ἡ βασιλεια του Ἰησ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ἀγαθος ἀδελφος οὐκ ἐστι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ο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wicked crowd seeks signs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s God dea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are departing to our own hou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67028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s the kingdom of Jesus hol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67028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good brother is not alo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78200" y="3643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νηρος ὀχλος ζητει σημει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4667400" y="4157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(ἐστιν) νεκρος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667400" y="4643280"/>
            <a:ext cx="45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ομεν εἰς (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ς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ς ἰδιους οἰκους (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ς ἰδιας οἰκιας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4687920" y="56149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ἀδελφη ἡ Ἰουδαια (ἐστιν) ἀγαθ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84240" y="5460840"/>
            <a:ext cx="32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Jewish sister is good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244440" y="15145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φιλει τους Ἰουδαι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ἀγαθοι διδασκ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αυλος λεγει τοις ἁγιο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τυφλος ὑπαγ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7128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3) –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F3555C0C-A839-4774-933B-B0DA207AF1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57200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loves the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572000" y="302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ood people/men t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572000" y="3627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 speaks to the holy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568760" y="4246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lind man de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υ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ι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ξ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D4C866BF-3DC3-41CC-88E9-DBE2EE140D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8:17:46Z</dcterms:created>
  <dc:creator>Sarah</dc:creator>
  <dc:description/>
  <dc:language>en-US</dc:language>
  <cp:lastModifiedBy>Sarah</cp:lastModifiedBy>
  <dcterms:modified xsi:type="dcterms:W3CDTF">2009-07-11T20:10:47Z</dcterms:modified>
  <cp:revision>51</cp:revision>
  <dc:subject/>
  <dc:title>Slide 1</dc:title>
</cp:coreProperties>
</file>